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673613"/>
        <c:axId val="24581730"/>
      </c:barChart>
      <c:catAx>
        <c:axId val="536736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581730"/>
        <c:crosses val="autoZero"/>
        <c:auto val="1"/>
        <c:lblAlgn val="ctr"/>
        <c:lblOffset val="100"/>
        <c:noMultiLvlLbl val="0"/>
      </c:catAx>
      <c:valAx>
        <c:axId val="245817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6736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1E8C-A7FB-4D5D-8D96-943BCAF8E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24AC-8752-4A53-8C8A-FFD945048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551A-E0A6-414F-A29E-689A6A419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C94C-E03E-4AA3-A7C1-41FC7A596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E4B9-7C7D-4DBF-964A-B8D43B376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F2D2-7F4A-4E0A-ADE3-1E0412815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774A-62B5-465A-9965-784A00DA8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CF04-FD6D-4EF1-80C2-EAFD3034B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60AD-AD34-4CFE-BFDF-71C873943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3E17-C781-43CC-9665-4FEA45D5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2D4F-93D2-4014-A435-CCC562F2F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965D-563A-4BDD-ADFA-EF5E8A8D6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82494F-D2CE-4B45-9323-79B24147F7D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